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7.wmf" ContentType="image/x-wmf"/>
  <Override PartName="/ppt/media/image11.jpeg" ContentType="image/jpeg"/>
  <Override PartName="/ppt/media/image18.png" ContentType="image/png"/>
  <Override PartName="/ppt/media/image16.png" ContentType="image/png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69EC-AD4F-4B1A-86A0-D90E95519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C9C3-71C0-424C-9BA1-0C0CC3D01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98B-1FD5-4C55-A923-9D2942A8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F44-7D2B-472B-8A1E-71697F56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A54-DE28-45E8-A8B0-AC83F7BB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7EC-6FD4-4F59-9833-FF859B52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5C1C-6AE5-4986-B4C0-654BF1F7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C105-BE10-48B9-83DE-E730A925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C077-CA8A-44D4-955F-FC9D194E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B980-B164-4D80-9EA6-1C020D6B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5A55-95C3-4EAF-8E8C-57580D29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DCC3-FD3A-4443-92BA-BD0D0FCA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445B-9056-4FD9-866B-8B642B30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32EC-B153-45A8-A6B8-52241420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C904-7737-4EE0-A048-9FEC2717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972E0-849B-4A39-B815-2EF6089D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FA03-43DA-48BD-A1E6-575516B3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D178-2174-4AC1-8F8C-0ED7BC063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E2EF-5391-43BE-81E9-B259B883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CD0A7-2B93-40FD-933E-D6EB2688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8E88E-C262-47EC-BE33-E474CA41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C68E-F432-433F-9669-973EC24D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0556-9401-4B6F-8B69-947EA4D5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C6E21-8FB2-4B68-B567-0568D70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238D-72AA-409A-9400-333B8A97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ADB70-29E2-409F-A573-532C18F5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7CAC-96EF-4FE3-A52E-04579B29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100C-C03A-4AF6-A482-7D45E4DB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05C9-5751-4439-8BD2-88F00002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C7C99-AFD8-41BD-A6F8-3B9F86AA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31FB7-B91B-444C-8C6F-150B87847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A9B6F-3926-4AE2-A826-E7C64126A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9F435-2287-4503-A435-56F405D4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9B94-F035-40B5-905C-74AAA77F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D959D-22B7-47D1-89B3-0CF2DBB8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E42-A9B7-43EC-BF12-6C6C536D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1A112-E355-416D-A798-9F93E153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416A3-403C-4C4A-B0AF-98715D93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AD022-CC6D-4AA2-9B5D-34E57EF81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2A38-8F80-472C-8E77-F251BA2D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7C05-7280-4831-8B8F-7D44F981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AAC0A-E942-4394-9980-F5258514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E821E-4022-455B-8642-397C6C581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3BF34-1E65-456F-86F4-DBF1913D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54D21-D78B-47CD-A50F-DE63BD24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7E78-EA08-4924-AC38-0E636529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84D7-C427-4FD2-9C71-8B4758B7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508ED-689F-4A11-B595-65B5055A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92F26-3998-429B-8B69-EDA61D7B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8C55E6-4F48-4E2F-8DDB-A94CE742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A0D6F-E4A3-4389-A339-D12A6047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6C256-854B-4D98-800D-7B5D1F77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B3AAB-5004-4257-8D1C-0DCA0987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6E01E-5097-4F0A-B2FB-603D31E5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AC6F2-B90D-4299-8885-387ECF4D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D7F9B-CBDA-45BA-BF45-2E5648F1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EED5A-AB83-4090-AB93-58393E864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5184-9279-4E0B-AC67-0DA4D88C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C5262-76E7-41CF-84D0-1DEB012B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AE520-F359-40C3-880C-D6130576C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D2DDA-87F7-4C3B-B2E7-CD07B621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CFC94-2FE0-4D4F-A5BC-D58B8A28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2FB7E-4988-427A-B90F-976B89C1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FC2B3-745B-4780-9BAA-96D5789A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720A9-BA2B-4034-9759-33544CB1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59402-E95C-4C7E-9C46-DC041D1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89150-1B8C-46BE-B86B-D79DA234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F962B-B0F6-46A4-AA50-BA0D4594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C78-7610-4437-9F47-109F325B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FD853-3C2F-412E-A2B3-A5E26700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3DBDB-1F2D-4E87-A2FD-A9B23136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3C78D-5B2A-4F03-BC4C-1E2BB0D7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4BB16-0CA9-492B-B8EE-3087C078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1BA9E-616E-4005-B136-48793EE5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92056-6379-4E46-9A8C-D6DA6250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7CAF2-6FB4-4255-A29B-2CC5E245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0AFB1-286D-422A-BEE4-F2F860F0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BDB81-2162-4205-895C-E101A87F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EC688-0F54-4FD8-B2EE-5C444B43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13FE-7A5A-4EC6-B6AC-4F742062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E761D-1FA6-48C7-8665-55141AEB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A508C-CC0D-41C6-8822-056B2F74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0521C-83CF-47A5-ACDF-16AFC5E9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B5EDD-E2CD-4644-9A3F-CE2280D5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58D1B-4CB5-48CD-AD56-D8758604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C65-47B2-4D5A-BA61-7B8FB4A5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DE86-DCF4-4DBA-842D-B3F68ECBC1E6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A97D-132A-4484-8457-32B7B6F3FC14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dbf5f9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dbf5f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36D7-B575-4183-99C6-58EEBC7987B5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15F3-C2ED-4893-B09F-0EA3014D17CA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8AF0-CAEB-46F8-9612-0371EEC68E6C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D525-F084-4026-933C-E9F80507CCE6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b5395"/>
              </a:gs>
              <a:gs pos="100000">
                <a:srgbClr val="59aa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dbf5f9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dbf5f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8C37-0347-4EAC-8543-DC485E126898}" type="slidenum"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Using Da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At Santee Community School</a:t>
            </a:r>
            <a:endParaRPr b="0" lang="en-US" sz="2000" spc="-1" strike="noStrike">
              <a:solidFill>
                <a:srgbClr val="04617b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"/>
          <p:cNvPicPr/>
          <p:nvPr/>
        </p:nvPicPr>
        <p:blipFill>
          <a:blip r:embed="rId1"/>
          <a:stretch/>
        </p:blipFill>
        <p:spPr>
          <a:xfrm>
            <a:off x="2590920" y="2685960"/>
            <a:ext cx="4271760" cy="417204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Used in Reading, next year will also be Math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Lesson progression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Individual scores – how are students doing on independent work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Look at test scores – did the student pass first time or is re-teaching required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All factors are used to make placement determinations. 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IFDI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Teacher Repor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Student Repor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DesCartes Repor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40120" indent="-2401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Data Retreats 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lvl="2" marL="752760" indent="-200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After each MAP® Test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lvl="2" marL="752760" indent="-200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For Teachers and Para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lvl="2" marL="752760" indent="-200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For Student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WEA - MAPS®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5413320" y="2749680"/>
            <a:ext cx="35053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2057400"/>
            <a:ext cx="740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Involve all teachers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Better understanding of the MAP scores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Steps to Analyze Teacher Report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Identify grade level of high and low students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2" marL="1128960" indent="-503640">
              <a:spcBef>
                <a:spcPts val="499"/>
              </a:spcBef>
              <a:buClr>
                <a:srgbClr val="0c61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ndara"/>
              </a:rPr>
              <a:t>Use Normative Data charts</a:t>
            </a:r>
            <a:endParaRPr b="0" lang="en-US" sz="20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Identify student performing at grade level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2" marL="1128960" indent="-503640">
              <a:spcBef>
                <a:spcPts val="499"/>
              </a:spcBef>
              <a:buClr>
                <a:srgbClr val="0c61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ndara"/>
              </a:rPr>
              <a:t>Use Normative Data charts (+3 and -3 of RIT)</a:t>
            </a:r>
            <a:endParaRPr b="0" lang="en-US" sz="20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Identify students falling in the 40-60 %tile range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1" marL="626760" indent="-267120">
              <a:spcBef>
                <a:spcPts val="550"/>
              </a:spcBef>
              <a:buClr>
                <a:srgbClr val="0f6fc6"/>
              </a:buClr>
              <a:buFont typeface="Candar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Candara"/>
              </a:rPr>
              <a:t>Identify student qualifying as Low &amp; High Achievers</a:t>
            </a:r>
            <a:endParaRPr b="0" lang="en-US" sz="2200" spc="-1" strike="noStrike">
              <a:solidFill>
                <a:srgbClr val="04617b"/>
              </a:solidFill>
              <a:latin typeface="Candara"/>
            </a:endParaRPr>
          </a:p>
          <a:p>
            <a:pPr lvl="2" marL="1128960" indent="-503640">
              <a:spcBef>
                <a:spcPts val="499"/>
              </a:spcBef>
              <a:buClr>
                <a:srgbClr val="0c61a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Candara"/>
              </a:rPr>
              <a:t>High Achievers=95%tile, Low Achievers=2 grade levels below using the Normative Data Chart</a:t>
            </a:r>
            <a:endParaRPr b="0" lang="en-US" sz="2000" spc="-1" strike="noStrike">
              <a:solidFill>
                <a:srgbClr val="04617b"/>
              </a:solidFill>
              <a:latin typeface="Candara"/>
            </a:endParaRPr>
          </a:p>
          <a:p>
            <a:pPr marL="267120" indent="-26712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2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aff Data Retreats – Using MAP scor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3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Students set goals 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Students graph MAP® scores for all subjec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udents and MAP®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3733920" y="41148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udents Graphing MAP score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3" name="Content Placeholder 3" descr="MAP Chart.JPG"/>
          <p:cNvPicPr/>
          <p:nvPr/>
        </p:nvPicPr>
        <p:blipFill>
          <a:blip r:embed="rId1"/>
          <a:stretch/>
        </p:blipFill>
        <p:spPr>
          <a:xfrm>
            <a:off x="1066680" y="1682640"/>
            <a:ext cx="708660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AIMSweb is a benchmark and progress monitoring system based on direct, frequent and continuous student assessment. 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The results are reported to students, parents, teachers and administrators via a web-based data management and reporting system to determine response to intervention.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64600" indent="-26460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ompleted at the beginning and end of school year.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AIMSweb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Reading, Mathematics, and Writing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Compare to previous year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Correlation with MAP test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ebraska State Assessment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eS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8" name="Picture 2" descr="C:\Users\theiser\AppData\Local\Microsoft\Windows\Temporary Internet Files\Content.IE5\04H4059W\MM900283244[1].gif"/>
          <p:cNvPicPr/>
          <p:nvPr/>
        </p:nvPicPr>
        <p:blipFill>
          <a:blip r:embed="rId1"/>
          <a:stretch/>
        </p:blipFill>
        <p:spPr>
          <a:xfrm>
            <a:off x="3352680" y="4498920"/>
            <a:ext cx="2395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oming School year will be the first year to use DIBELS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Used to progress monitor and benchmark with reading progress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Used Kindergarten through 6</a:t>
            </a:r>
            <a:r>
              <a:rPr b="0" lang="en-US" sz="2400" spc="-1" strike="noStrike" baseline="30000">
                <a:solidFill>
                  <a:srgbClr val="04617b"/>
                </a:solidFill>
                <a:latin typeface="Candara"/>
              </a:rPr>
              <a:t>th</a:t>
            </a: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 grade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Benchmarking will be 3 times per year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Progress monitoring will be as needed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DIBEL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1" name="Picture 4" descr="C:\Users\theiser\AppData\Local\Microsoft\Windows\Temporary Internet Files\Content.IE5\04H4059W\MC900287310[1].wmf"/>
          <p:cNvPicPr/>
          <p:nvPr/>
        </p:nvPicPr>
        <p:blipFill>
          <a:blip r:embed="rId1"/>
          <a:stretch/>
        </p:blipFill>
        <p:spPr>
          <a:xfrm>
            <a:off x="6629400" y="3581280"/>
            <a:ext cx="21049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Teacher Evaluation Proces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Professional Learning Communities (PLC’s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Implementing Behavior Intervention Support Team (BIST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New for 2011-2012 School Year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4" name="Picture 2" descr="C:\Users\theiser\AppData\Local\Microsoft\Windows\Temporary Internet Files\Content.IE5\C3FHIMX8\MC900153552[1].wmf"/>
          <p:cNvPicPr/>
          <p:nvPr/>
        </p:nvPicPr>
        <p:blipFill>
          <a:blip r:embed="rId1"/>
          <a:stretch/>
        </p:blipFill>
        <p:spPr>
          <a:xfrm>
            <a:off x="3124080" y="4114800"/>
            <a:ext cx="27590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37720" y="266652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Santee will be using a teacher evaluation process based on five domain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Recognize Instructional Excellence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Assess Teaching not the Teacher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Teacher Evaluation Proces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7" name="Picture 2" descr="C:\Users\theiser\AppData\Local\Microsoft\Windows\Temporary Internet Files\Content.IE5\04H4059W\MC900056935[1].wmf"/>
          <p:cNvPicPr/>
          <p:nvPr/>
        </p:nvPicPr>
        <p:blipFill>
          <a:blip r:embed="rId1"/>
          <a:stretch/>
        </p:blipFill>
        <p:spPr>
          <a:xfrm>
            <a:off x="3352680" y="4724280"/>
            <a:ext cx="180684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C:\Users\theiser\AppData\Local\Microsoft\Windows\Temporary Internet Files\Content.IE5\435SOUMM\MC900410945[1].wmf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43400" y="3352680"/>
            <a:ext cx="4589640" cy="3265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762120" y="25142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Data Source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New for 2011-2012 School Year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Principals’ Role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Changes made as a result of analyzing data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Challenge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Using Data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at Santee community School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Teacher Evaluation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Constantly review data from Goedustar, NIFDI, and DIBEL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Participate in SAT meeting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Monthly Leadership Meeting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rincipals’ Rol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0" name="Picture 2" descr="C:\Users\theiser\AppData\Local\Microsoft\Windows\Temporary Internet Files\Content.IE5\435SOUMM\MP900341522[1].jpg"/>
          <p:cNvPicPr/>
          <p:nvPr/>
        </p:nvPicPr>
        <p:blipFill>
          <a:blip r:embed="rId1"/>
          <a:stretch/>
        </p:blipFill>
        <p:spPr>
          <a:xfrm>
            <a:off x="1908000" y="5181480"/>
            <a:ext cx="555948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Reading and Math interventions have been put into place (NIFDI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9</a:t>
            </a:r>
            <a:r>
              <a:rPr b="0" lang="en-US" sz="2800" spc="-1" strike="noStrike" baseline="30000">
                <a:solidFill>
                  <a:srgbClr val="04617b"/>
                </a:solidFill>
                <a:latin typeface="Candara"/>
              </a:rPr>
              <a:t>th</a:t>
            </a: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 hour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Saturday School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Open Library in evening for credit recovery and tutoring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21</a:t>
            </a:r>
            <a:r>
              <a:rPr b="0" lang="en-US" sz="2800" spc="-1" strike="noStrike" baseline="30000">
                <a:solidFill>
                  <a:srgbClr val="04617b"/>
                </a:solidFill>
                <a:latin typeface="Candara"/>
              </a:rPr>
              <a:t>st</a:t>
            </a: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 Century after school program and summer school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hanges Made as Results of Da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theiser\AppData\Local\Microsoft\Windows\Temporary Internet Files\Content.IE5\02VA1KQY\MC900233279[1].wmf"/>
          <p:cNvPicPr/>
          <p:nvPr/>
        </p:nvPicPr>
        <p:blipFill>
          <a:blip r:embed="rId1"/>
          <a:stretch/>
        </p:blipFill>
        <p:spPr>
          <a:xfrm>
            <a:off x="3211560" y="4572000"/>
            <a:ext cx="2708280" cy="2286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860400" y="266652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Pride period for 9</a:t>
            </a:r>
            <a:r>
              <a:rPr b="0" lang="en-US" sz="2800" spc="-1" strike="noStrike" baseline="30000">
                <a:solidFill>
                  <a:srgbClr val="04617b"/>
                </a:solidFill>
                <a:latin typeface="Candara"/>
              </a:rPr>
              <a:t>th</a:t>
            </a: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 through 12</a:t>
            </a:r>
            <a:r>
              <a:rPr b="0" lang="en-US" sz="2800" spc="-1" strike="noStrike" baseline="30000">
                <a:solidFill>
                  <a:srgbClr val="04617b"/>
                </a:solidFill>
                <a:latin typeface="Candara"/>
              </a:rPr>
              <a:t>th</a:t>
            </a: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 grade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Data visible for students to see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Students analyze their own data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Portfolios for both students and teachers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hanges Made as Results of Data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Some view data as threatening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Some are unsure of how to look and interpret data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Data is new, unknown, and intimidating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halleng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8" name="Picture 2" descr="C:\Users\theiser\AppData\Local\Microsoft\Windows\Temporary Internet Files\Content.IE5\435SOUMM\MC900433819[1].png"/>
          <p:cNvPicPr/>
          <p:nvPr/>
        </p:nvPicPr>
        <p:blipFill>
          <a:blip r:embed="rId1"/>
          <a:stretch/>
        </p:blipFill>
        <p:spPr>
          <a:xfrm>
            <a:off x="335268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laptop"/>
          <p:cNvGrpSpPr/>
          <p:nvPr/>
        </p:nvGrpSpPr>
        <p:grpSpPr>
          <a:xfrm>
            <a:off x="2328840" y="2305080"/>
            <a:ext cx="4492800" cy="4267080"/>
            <a:chOff x="2328840" y="2305080"/>
            <a:chExt cx="4492800" cy="4267080"/>
          </a:xfrm>
        </p:grpSpPr>
        <p:pic>
          <p:nvPicPr>
            <p:cNvPr id="348" name="laptop" descr=""/>
            <p:cNvPicPr/>
            <p:nvPr/>
          </p:nvPicPr>
          <p:blipFill>
            <a:blip r:embed="rId1"/>
            <a:stretch/>
          </p:blipFill>
          <p:spPr>
            <a:xfrm>
              <a:off x="2328840" y="2305080"/>
              <a:ext cx="449280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3360600" y="2773440"/>
              <a:ext cx="245124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"/>
          <p:cNvSpPr txBox="1"/>
          <p:nvPr/>
        </p:nvSpPr>
        <p:spPr>
          <a:xfrm>
            <a:off x="871560" y="2133720"/>
            <a:ext cx="7408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Goedustar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National Institute for Direct Instruction (NIFDI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Northwest Evaluation Association (NWEA) Measures of Academic Progress (MAPS)®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AIMSweb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Nebraska State Assessments (NeSA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Dynamic Indicators for Basic Early Literacy Skills (DIBELS)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Data Sourc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Attendance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Progress Report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Ineligibility Repor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Behavior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Lesson Plan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GoEdustar Repor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4" name="Picture 4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5257800" y="2666880"/>
            <a:ext cx="236232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1599840"/>
            <a:ext cx="80438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Excessive Absenteeism Reports 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 </a:t>
            </a: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Given to Administration weekly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50920" indent="-250920">
              <a:spcBef>
                <a:spcPts val="700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Monthly Attendance Reports – </a:t>
            </a:r>
            <a:r>
              <a:rPr b="0" lang="en-US" sz="2800" spc="-1" strike="noStrike">
                <a:solidFill>
                  <a:srgbClr val="04617b"/>
                </a:solidFill>
                <a:latin typeface="Candara"/>
              </a:rPr>
              <a:t>Analyzed</a:t>
            </a:r>
            <a:endParaRPr b="0" lang="en-US" sz="28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ompared to previous years attendance for that month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Compared to other months in the current year 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hared with all Teachers, Administration, and Attendance committee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marL="250920" indent="-25092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Quarterly Attendance Report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Students in grades 9-12 analyze their own attendance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  <a:p>
            <a:pPr lvl="2" marL="786960" indent="-210240">
              <a:spcBef>
                <a:spcPts val="601"/>
              </a:spcBef>
              <a:buClr>
                <a:srgbClr val="0f6fc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ndara"/>
              </a:rPr>
              <a:t>Attendance placed on report cards</a:t>
            </a: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Attendance Repor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Students in grades 9-12 examine their grades at least twice a week during PRIDE time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Grades are sent to Parents/Guardians every 3 week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Progress Repor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3886200" y="4800600"/>
            <a:ext cx="240984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Title 1"/>
          <p:cNvSpPr/>
          <p:nvPr/>
        </p:nvSpPr>
        <p:spPr>
          <a:xfrm>
            <a:off x="495360" y="24300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tudent Graphing their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ontent Placeholder 2"/>
          <p:cNvSpPr/>
          <p:nvPr/>
        </p:nvSpPr>
        <p:spPr>
          <a:xfrm>
            <a:off x="430200" y="1828800"/>
            <a:ext cx="7467480" cy="46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4" descr="Grade Chart.JPG"/>
          <p:cNvPicPr/>
          <p:nvPr/>
        </p:nvPicPr>
        <p:blipFill>
          <a:blip r:embed="rId1"/>
          <a:stretch/>
        </p:blipFill>
        <p:spPr>
          <a:xfrm>
            <a:off x="990720" y="2438280"/>
            <a:ext cx="69339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Includes all D’s and F’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Printed every Monday morning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All teachers are given report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Letters given to students and parents/guardians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Determines the 9</a:t>
            </a:r>
            <a:r>
              <a:rPr b="0" lang="en-US" sz="3200" spc="-1" strike="noStrike" baseline="30000">
                <a:solidFill>
                  <a:srgbClr val="04617b"/>
                </a:solidFill>
                <a:latin typeface="Candara"/>
              </a:rPr>
              <a:t>th</a:t>
            </a: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 hour list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Ineligibility Repor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6858000" y="39625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Printed Monthly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buClr>
                <a:srgbClr val="0f6fc6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ndara"/>
              </a:rPr>
              <a:t>Looked at by PBS Team and Administration</a:t>
            </a:r>
            <a:endParaRPr b="0" lang="en-US" sz="3200" spc="-1" strike="noStrike">
              <a:solidFill>
                <a:srgbClr val="04617b"/>
              </a:solidFill>
              <a:latin typeface="Candar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Behavior Report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4648320" y="3789360"/>
            <a:ext cx="3095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20:45:02Z</dcterms:created>
  <dc:creator>marktami</dc:creator>
  <dc:description/>
  <dc:language>en-US</dc:language>
  <cp:lastModifiedBy>Tami Heiser</cp:lastModifiedBy>
  <dcterms:modified xsi:type="dcterms:W3CDTF">2011-08-02T18:06:05Z</dcterms:modified>
  <cp:revision>19</cp:revision>
  <dc:subject/>
  <dc:title>Using Data</dc:title>
</cp:coreProperties>
</file>